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70E-850D-4470-80D2-02DD2897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3A74-024C-4C89-8A15-EEC987C7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810-AE4D-47AA-B9A4-6E911653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614-BCD9-40EB-ACAB-20AD66A2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F4A2-0444-4EB9-86F2-9AF468E3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DB55-BD0D-4960-A985-0E87EAE4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6AF7-9056-4BE5-987D-A779C430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5BE5-836A-4C3A-9015-E7D615E9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94E6-DA69-4DCE-A9FD-CDB3ABA1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2F79-0A66-41A3-9CBB-98C0E202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719D-528D-43AE-A177-A551A1DE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817-94B6-4A45-945A-82355093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D980-606D-4E01-868A-B5EDB85B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51DC-AE40-42D2-AB6E-1B13C2FA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BC1C-56B7-4CE2-B62D-F71B6CA3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5891-100D-414D-A8E0-E08C5D8C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B464-17D7-47B4-ACAA-810EA35E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3F9-7BC2-4069-ADF9-70DB1364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B71-620B-45DB-A507-B451EAF4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6A07-3A07-43F9-A3B6-4F94AF52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AA2D-BCCC-4B1A-8AFF-4AF9B4B1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202-B571-46B8-BAD2-E3F16044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940-4C5E-414D-A157-76B3ADB1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A9C-4490-489C-B596-37095B95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5BAA-3563-4F9E-A66B-FD740EC7F55B}" type="slidenum"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5D6B-AE15-43E5-91D5-DADD134FA5C9}" type="slidenum"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ating and Cooling Cur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85880" y="786240"/>
            <a:ext cx="7876440" cy="33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693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 20.4 Cooling Curve of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2                        3                    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Liqu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-liqui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quid-solid   solid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V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5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f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1:Gaseous water cools. Stage 2: Gaseous water condens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3: Liquid water cools. Stage4: Liquid water freezes Stage5: solid water c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752480" y="28954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752480" y="2895480"/>
            <a:ext cx="5791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1752480" y="5715000"/>
            <a:ext cx="5791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2286000" y="28954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3886200" y="28954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6019920" y="28954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>
            <a:off x="1752480" y="2895480"/>
            <a:ext cx="5335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7"/>
          <p:cNvSpPr/>
          <p:nvPr/>
        </p:nvSpPr>
        <p:spPr>
          <a:xfrm>
            <a:off x="2286000" y="3352680"/>
            <a:ext cx="16002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3886200" y="3352680"/>
            <a:ext cx="21337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6934320" y="28954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32"/>
          <p:cNvSpPr/>
          <p:nvPr/>
        </p:nvSpPr>
        <p:spPr>
          <a:xfrm>
            <a:off x="6019920" y="4952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3"/>
          <p:cNvSpPr/>
          <p:nvPr/>
        </p:nvSpPr>
        <p:spPr>
          <a:xfrm>
            <a:off x="7543800" y="28954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34"/>
          <p:cNvSpPr/>
          <p:nvPr/>
        </p:nvSpPr>
        <p:spPr>
          <a:xfrm>
            <a:off x="6934320" y="4952880"/>
            <a:ext cx="6094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35"/>
          <p:cNvSpPr/>
          <p:nvPr/>
        </p:nvSpPr>
        <p:spPr>
          <a:xfrm flipV="1">
            <a:off x="2895480" y="3428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7"/>
          <p:cNvSpPr/>
          <p:nvPr/>
        </p:nvSpPr>
        <p:spPr>
          <a:xfrm flipV="1">
            <a:off x="1981080" y="31237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8"/>
          <p:cNvSpPr/>
          <p:nvPr/>
        </p:nvSpPr>
        <p:spPr>
          <a:xfrm>
            <a:off x="495288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0"/>
          <p:cNvSpPr/>
          <p:nvPr/>
        </p:nvSpPr>
        <p:spPr>
          <a:xfrm flipH="1">
            <a:off x="228564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41"/>
          <p:cNvSpPr/>
          <p:nvPr/>
        </p:nvSpPr>
        <p:spPr>
          <a:xfrm>
            <a:off x="358128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2"/>
          <p:cNvSpPr/>
          <p:nvPr/>
        </p:nvSpPr>
        <p:spPr>
          <a:xfrm>
            <a:off x="2590920" y="4952880"/>
            <a:ext cx="218880" cy="763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43"/>
          <p:cNvSpPr/>
          <p:nvPr/>
        </p:nvSpPr>
        <p:spPr>
          <a:xfrm flipH="1">
            <a:off x="6019560" y="5410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44"/>
          <p:cNvSpPr/>
          <p:nvPr/>
        </p:nvSpPr>
        <p:spPr>
          <a:xfrm>
            <a:off x="6705720" y="5410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5"/>
          <p:cNvSpPr/>
          <p:nvPr/>
        </p:nvSpPr>
        <p:spPr>
          <a:xfrm>
            <a:off x="6172200" y="5410080"/>
            <a:ext cx="219240" cy="763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46"/>
          <p:cNvSpPr/>
          <p:nvPr/>
        </p:nvSpPr>
        <p:spPr>
          <a:xfrm>
            <a:off x="6477120" y="4724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47"/>
          <p:cNvSpPr/>
          <p:nvPr/>
        </p:nvSpPr>
        <p:spPr>
          <a:xfrm>
            <a:off x="7315200" y="4648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ating Cur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p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e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dded vers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useful in describing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han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tempera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amount of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he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 substance as it undergoes a phase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Figure 20.3 for the heating curve for 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e at -25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to steam at 12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85880" y="786240"/>
            <a:ext cx="7876440" cy="33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6932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 20.3 Heating curve fo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                                                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     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                     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      B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5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1752480" y="26668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1752480" y="26668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1752480" y="56386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>
            <a:off x="6019920" y="26668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 flipV="1">
            <a:off x="1981080" y="5181480"/>
            <a:ext cx="76320" cy="533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21"/>
          <p:cNvSpPr/>
          <p:nvPr/>
        </p:nvSpPr>
        <p:spPr>
          <a:xfrm>
            <a:off x="2057400" y="5181480"/>
            <a:ext cx="4572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22"/>
          <p:cNvSpPr/>
          <p:nvPr/>
        </p:nvSpPr>
        <p:spPr>
          <a:xfrm flipV="1">
            <a:off x="2514600" y="3352680"/>
            <a:ext cx="60948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3124080" y="3352680"/>
            <a:ext cx="236232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4"/>
          <p:cNvSpPr/>
          <p:nvPr/>
        </p:nvSpPr>
        <p:spPr>
          <a:xfrm flipV="1">
            <a:off x="5486400" y="2895480"/>
            <a:ext cx="228600" cy="45720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85880" y="786240"/>
            <a:ext cx="7876440" cy="33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6932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 20.3 Heating curve fo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                                                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     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      B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Line AB repres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5  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ice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heating of 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175248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752480" y="28954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1752480" y="56386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 flipV="1">
            <a:off x="1981080" y="5181480"/>
            <a:ext cx="76320" cy="533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2057400" y="5181480"/>
            <a:ext cx="4572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 flipV="1">
            <a:off x="2514600" y="3352680"/>
            <a:ext cx="60948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3200400" y="3352680"/>
            <a:ext cx="228600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V="1">
            <a:off x="5486400" y="2895480"/>
            <a:ext cx="228600" cy="45720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 flipV="1">
            <a:off x="2057400" y="5410080"/>
            <a:ext cx="53352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85880" y="786240"/>
            <a:ext cx="7876440" cy="33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6932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 20.3 Heating curve fo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                                                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     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     Melting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 BC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ce&amp;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      B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presents mel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5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1752480" y="26668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1752480" y="56386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6019920" y="26668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 flipV="1">
            <a:off x="1981080" y="5181120"/>
            <a:ext cx="7632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057400" y="5181480"/>
            <a:ext cx="4572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 flipV="1">
            <a:off x="2514600" y="3352680"/>
            <a:ext cx="60948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3124080" y="3352680"/>
            <a:ext cx="236232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 flipV="1">
            <a:off x="5486400" y="2895480"/>
            <a:ext cx="228600" cy="45720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1981080" y="4800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1752480" y="26668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85880" y="786240"/>
            <a:ext cx="7876440" cy="33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6932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 20.3 Heating curve fo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                                                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     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                          Liquid water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 CD repres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itional he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      B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 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5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175248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1752480" y="28954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1752480" y="56386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V="1">
            <a:off x="1981080" y="5181120"/>
            <a:ext cx="7632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057400" y="5181480"/>
            <a:ext cx="4572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V="1">
            <a:off x="2514600" y="3352680"/>
            <a:ext cx="60948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3124080" y="3352680"/>
            <a:ext cx="236232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 flipV="1">
            <a:off x="5486400" y="2895480"/>
            <a:ext cx="228600" cy="45720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5"/>
          <p:cNvSpPr/>
          <p:nvPr/>
        </p:nvSpPr>
        <p:spPr>
          <a:xfrm flipH="1">
            <a:off x="2895480" y="4114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85880" y="786240"/>
            <a:ext cx="7876440" cy="33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6932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 20.3 Heating curve fo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                                                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     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to gas                    line DE repres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The boiling of water 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      B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5  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175248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1752480" y="28954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2"/>
          <p:cNvSpPr/>
          <p:nvPr/>
        </p:nvSpPr>
        <p:spPr>
          <a:xfrm>
            <a:off x="1752480" y="56386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 flipV="1">
            <a:off x="1981080" y="5181480"/>
            <a:ext cx="76320" cy="533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057400" y="5181480"/>
            <a:ext cx="4572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2"/>
          <p:cNvSpPr/>
          <p:nvPr/>
        </p:nvSpPr>
        <p:spPr>
          <a:xfrm flipV="1">
            <a:off x="2514600" y="3352680"/>
            <a:ext cx="60948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3"/>
          <p:cNvSpPr/>
          <p:nvPr/>
        </p:nvSpPr>
        <p:spPr>
          <a:xfrm>
            <a:off x="3200400" y="3352680"/>
            <a:ext cx="228600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4"/>
          <p:cNvSpPr/>
          <p:nvPr/>
        </p:nvSpPr>
        <p:spPr>
          <a:xfrm flipV="1">
            <a:off x="5486400" y="2895480"/>
            <a:ext cx="228600" cy="45720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5"/>
          <p:cNvSpPr/>
          <p:nvPr/>
        </p:nvSpPr>
        <p:spPr>
          <a:xfrm flipH="1" flipV="1">
            <a:off x="3657240" y="335232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85880" y="786240"/>
            <a:ext cx="7876440" cy="33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6932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 20.3 Heating curve fo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                                                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     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ter vap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      B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5  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1752480" y="26668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1752480" y="28954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1752480" y="56386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0"/>
          <p:cNvSpPr/>
          <p:nvPr/>
        </p:nvSpPr>
        <p:spPr>
          <a:xfrm flipV="1">
            <a:off x="1981080" y="5181480"/>
            <a:ext cx="76320" cy="533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2057400" y="5181480"/>
            <a:ext cx="4572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22"/>
          <p:cNvSpPr/>
          <p:nvPr/>
        </p:nvSpPr>
        <p:spPr>
          <a:xfrm flipV="1">
            <a:off x="2514600" y="3352680"/>
            <a:ext cx="60948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>
            <a:off x="3124080" y="3352680"/>
            <a:ext cx="236232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 flipV="1">
            <a:off x="5486400" y="2895480"/>
            <a:ext cx="228600" cy="45720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 flipH="1" flipV="1">
            <a:off x="5715000" y="3124080"/>
            <a:ext cx="4572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oling Cur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s the change in temperature and the amount of heat during the cool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lope of the curve is decreasing when heat is removed from th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02:10:56Z</dcterms:created>
  <dc:creator>meynard love sirly</dc:creator>
  <dc:description/>
  <dc:language>en-US</dc:language>
  <cp:lastModifiedBy>jluckey</cp:lastModifiedBy>
  <dcterms:modified xsi:type="dcterms:W3CDTF">2012-11-06T00:59:32Z</dcterms:modified>
  <cp:revision>2</cp:revision>
  <dc:subject/>
  <dc:title>Heating and Cooling Curve</dc:title>
</cp:coreProperties>
</file>